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633-C51C-4638-BD78-EEED7C13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030-2C18-4DB1-BB3B-387BE279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348-2C8B-4A4A-96B9-780BBCD1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8EE-CC97-4A5A-BAD7-92D7F72A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7873-A155-4479-A200-F83D4054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432C-2F6A-4B28-AA0C-5B98CD38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2C70-80C4-4B79-B89F-9B59C81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C13-A76E-409C-8265-517D2B2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06CE-7BE4-4458-A057-26EEE09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D7D1-397C-4BCC-BE41-D26E0986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F3DC-A20C-4D24-8870-0AF1637B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2C7-56C9-4131-9561-5109975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D56C-9513-4CE6-8191-72547F2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F099-5271-4538-A155-9CC1CD8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8D8C-070E-4719-A376-BCBBBE0C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87CB-0FC4-4211-BF28-FC5E50BD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C8A6-2FBF-4F0C-B695-BA889B05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B2A-8FBD-46AA-A952-34E0BD0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D16-1088-4391-BAF2-CB9F783D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CF9-060E-4A07-8F37-2007E89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DA5-B6DC-4ECE-AD91-F8B18B7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D99-E0E3-41A8-8E4D-B5005B7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E88-DC04-4972-96A1-EB420BB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A88-12DC-4152-A801-959820D1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E65-48C4-4C25-B5B0-B58416A7C85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18A7-805B-41D3-9FAF-C38724DEB78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gal Responsibilit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cal Law and Eth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7216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.  Competent adults are liable, or legally responsible for their own acts, both on the job and in their private lives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ployers are liable for their employees in regards to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Building and grounds—adequate upkeep to prevent injur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 Automobiles—if an employee uses their own car or employers car, the employer must be adequately insured in case of an accident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Employee safety—comfortable and safe work environmen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34848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I. As professionals, we are responsible for our actions, (or failure to act) under a reasonable standard known as Standard of Care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s are held to a higher standard and may be held liable for negligenc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lth care workers must be careful in the duties they perform.  If they perform duties commonly assigned to those with a higher level of training and expertise, they may legally be held to a higher standard of car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-152640"/>
            <a:ext cx="863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II.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rivacy, Confidentiality, and Privileged Communication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28600" y="1980720"/>
            <a:ext cx="90439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It is a healthcare professional’s ethical and legal duty to safeguard a patient’s privacy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Confidentiality is the act of holding information in confidence, not to be released to unauthorized individual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Privileged communication is information held confidential within a protected relationship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533520" y="152280"/>
            <a:ext cx="92203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. Medical office confidentiality should be maintained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Do not release information to a third party without a signed consen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When talking on the phone regarding test results, be sure no one else can hea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 When leaving a message on an answering machine just tell the patient to call the office regarding their recent appointmen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Do not decide confidentiality on the basis of personal approval of thoughts and actions of the patien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. Confidentiality may be waived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. If the patient sues the physician for malpractice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2. If the patient signs a waiver to release information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2:37:50Z</dcterms:created>
  <dc:creator>Lorie Jones</dc:creator>
  <dc:description/>
  <dc:language>en-US</dc:language>
  <cp:lastModifiedBy>Administrator</cp:lastModifiedBy>
  <dcterms:modified xsi:type="dcterms:W3CDTF">2009-06-09T17:22:19Z</dcterms:modified>
  <cp:revision>6</cp:revision>
  <dc:subject/>
  <dc:title>Legal Responsibilities</dc:title>
</cp:coreProperties>
</file>